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432-806F-4C09-90AF-13858ED4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F93C-4123-4DD7-ABB2-7D36A076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737-748B-42AC-BF1D-7E2DB302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0F8-D6B9-41B0-83CC-665EA0CE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E59B-AF7D-4D45-B804-C0B7996C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C816-9181-413F-94DD-BAF6FDAC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CE38-2845-401B-AB02-00DA66AF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898F-2C0E-492F-B7D2-D43006D3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F0BE-9B10-4D58-8769-692AA54B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A325-C41B-4739-9783-31A0174A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4C63-CFB1-4647-94AB-294DC25F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32A-EEDB-4E59-8805-5189E85B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D946-41B4-46F5-B515-AE7FBFCB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F93F-1FA6-4330-8F7D-FF8D1B3A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CD2B-1071-4719-8D4B-899EFDE0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FD31-04C6-4ACB-A9F6-65570C6F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9795-1BDA-499A-BFE2-4DEBA3C2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05F-7B51-44B1-B900-FF586947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EB2-E0F9-4792-96D3-AF183AFC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048-BD27-43A9-8A6D-64BF2598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8B1-2E6B-4D24-B57B-F36E9EAD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B93A-1BF0-4DD8-8899-D2FEAC0B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3A1-BEB2-4AB5-9718-A49FEA5F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674-A555-49E3-9F31-24B87C4E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AAC2-E0A9-4E16-B32E-4037737CBB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C124-BE5E-43C0-8222-95E6254B9F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uxpaint.org/gallery/ingridv/numbers.pn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La clase de espanol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onika y Mich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 Famili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m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pap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herm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abuel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abuel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t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th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038480" y="4245120"/>
            <a:ext cx="37339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 es cuela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cion fis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a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Los trabajos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est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t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ci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19720" y="335268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umer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4114800"/>
            <a:ext cx="2286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28:04Z</dcterms:created>
  <dc:creator>WSFCS Workstation</dc:creator>
  <dc:description/>
  <dc:language>en-US</dc:language>
  <cp:lastModifiedBy>WSFCS Workstation</cp:lastModifiedBy>
  <dcterms:modified xsi:type="dcterms:W3CDTF">2010-04-28T18:55:03Z</dcterms:modified>
  <cp:revision>3</cp:revision>
  <dc:subject/>
  <dc:title>La clase de espanol</dc:title>
</cp:coreProperties>
</file>